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5E05-61BB-4D94-B834-BEFFDA62D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to module 5 of our online training to support the Essential Standards that will be implemented during the 2012-2013 school yea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2816-63F2-4018-A23E-78682D7F5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image of the Balsamic Reduction – what is left after boiling down is the absolute essence which is most powerf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5279-A977-49AF-8C7C-3A501AF98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 briefly on how the standard course of study has been “boiled down” in your area into the new str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E7A0-1514-4D9E-8A98-1C0AC1147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have a CMAPP account?  If not, check out the following website to learn how to get one: http://cmapp.wcpss.net/index/fa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currently revising pacing guides to reflect essential standards and place them in the 2012-2013 tab of Cmapp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so have exemplary lesson plans posted on the Arts Ed 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also start using Edmodo to share information about lesson plan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CEE0-E2A0-4773-B414-229F8A9CD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7261-2766-4EB1-86D8-E4BD6EC95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7A90-8676-42A4-83DD-513452A38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8A0C-057D-46B2-8B83-810A05D40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4A6-854D-4614-895A-981E31A7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D7E-44F0-4F43-91B0-6905753E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4A2-0FB4-43D7-9FDE-1F764CD0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D03-C6A7-4B3E-BB44-A8471270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B2E-DB1C-4ECE-9911-14340A48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F039-FF55-43C8-99A9-14FF2D56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FDB-BB77-4CBD-8AA9-F41B3BF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7346-341D-43F9-8960-D4A6EB54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0159-0CD9-4B1D-B496-8C54601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1454-4948-4149-BFA5-1F57F94B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34B9-1ED4-47E5-9619-C8545179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465-8B4A-4AD5-80C4-3F1E7CF9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3B7B-2DBE-4C36-9E42-94BEA2D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8A2E-FCDB-48CB-8B10-1906566E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80B9-3B12-4461-A9B9-9218967B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95BE-0896-4AAB-AFEE-4DCF9ED3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3491-BAF6-49BA-9E3C-C19B0358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1D85-9A84-44DE-9FB3-5D535874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1C76-445E-47B1-9622-BFB9967C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E7C0-20DA-4514-9730-D58BDB5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47930-AD9E-4829-9D6D-5EBCF93D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486DF-BD58-488A-A282-C012C9C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6E0-7F38-4759-8829-EA866BBC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819FA-A576-452E-8BC0-DD8E0B70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8F3F-0575-43A3-B1FB-391FD79F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68AC-0B71-4C6A-ADCC-C577737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E205-B145-476E-A624-6A88FC4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EC14-31AF-42ED-A517-597AF35B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CC78-3B59-4765-AC15-0E65B43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4EE9-2EFF-43E9-BDED-8526FFF0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AF31-845E-4568-B56D-E232A627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4A0C-5AD5-417B-81E9-2AB88F39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6EB3-C2A4-4F11-9650-E65F1E1B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AC3-61A5-4253-B53D-B0765A84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3F3E-160B-45D8-A631-8DD5105B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574C-CB82-492B-AA9C-84F7869F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D210-2FBB-43F2-A446-8D635FE9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4573B-49CD-44CE-B7E0-7498444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7C67-F631-40E7-986D-8796AF4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8AA5-4DCD-4568-825C-682F3C05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F5A0-78BB-4908-A53B-F84BB72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AC6F-667C-4DFA-98B3-B1A87F05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26F9-C720-4408-89F9-7ADE7B2A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E250-BB80-4D38-8888-9416E530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329-0027-4C9C-9355-9C53170A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3CA41-8A96-4946-8B78-37302675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8ABF-3702-46F4-ADAB-2C26732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9E78-DFA1-4CA9-9646-47AB9D05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A8C6D-9970-4511-BC8B-324018F7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A9CB-09A0-4A8A-A446-955F35F4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6FEB-7AD0-47D5-9475-7B13F1F8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B07D-4B86-4517-A265-0E5A800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3BCE-4CA6-45EF-AAD8-37A4137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49E4-E366-481C-B68A-35DC5BD9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9190-6D4E-41FA-BF54-2DD6A954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052-CCD7-491A-AF83-9C386DB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3271-94C2-4D72-AD41-7ADD5771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B5F59-B4B9-4B62-A4C6-4C7A8789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5B5D-6159-4377-93C3-BD0E94C9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76CC-6367-493A-8455-85C9A5F0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EDCC-531F-4A5B-AF60-B32CEF0F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453CB-CD81-4041-95C0-8C38FC90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E0999-4A44-44EE-871F-60E862A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7CB8-658A-42EE-851A-1AC07621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C262-0D5B-4308-90A4-1CACA34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E89E0-3B26-4868-A54E-529CE36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4AB-0512-4000-B686-FFC2D200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80B1D-CC6D-45A1-B3B1-AB6CE1FB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F39D-82D5-4AFE-9C98-F4562611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E5FF-A085-4419-A711-566A9301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FA7E1-A21C-42B4-A32E-879844C4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0EC07-7354-4999-A080-C43DA3EE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85679-D4A5-4FC5-8B3D-24A54142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9546-C585-4318-8DE5-580ECA22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3B646-3AD3-4401-97F8-9BD421E5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AF31-8E4D-40D2-AD23-AA8BA8DC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9A257-C28E-4B31-8572-5E0E606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BCB-ACEC-4746-92A4-376D6F2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2B1DC-C15B-42DF-9234-1E158458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2E224-632C-485D-AA52-0F4D000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87D9A-CA4A-49D7-9C2A-C696EB6F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B4282-1660-4BDC-B7B2-A34CF613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8D445-5F17-4C56-9E82-9A69C5E6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D4FDE-36ED-4EB4-9B82-840774EB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3CFC1-3A9A-4797-B6BF-CAE29C7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5715A-31CD-444C-9D23-C8D65ADF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C4342-0709-468F-A246-D761115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E956-ADC1-4737-A9C8-B2C0B94E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843-BFCA-49CD-BB3E-43980EC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70265-52FB-41F6-8916-7DBCA4D2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E7EF1-E5E7-43D0-8DD6-CCBD180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E0646-8097-49F7-B24A-D65683C5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23CA4-2655-4DE4-BA91-700397C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FA9A3-D3EF-4707-9B96-1999228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BBE1B-B8B8-47CF-83CD-A615D3E3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D8C4-311A-467E-A202-83D6D461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780D-983F-4E3F-9F9C-E0953DC401B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B1CD-6938-4771-BFB5-6398A51E334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81BB-0941-48A6-BC3A-2140E4D242A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B28-4755-40F9-9846-444C13A394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FC5F-394C-4A15-A775-AAE13AF51F8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512A-AD70-4AAA-A60C-361C692B3F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C1A-04FB-420C-B488-FE4792C1FF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1DE9-BBEC-4A69-9B3A-F9606298892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8253360" cy="2603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odule 5—Aligning Instruction &amp; Lesson Desig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earning Outcome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icipants wil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actice re-aligning existing resources with the new Essential Standar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 or revise a lesson plan based on one or more clarifying objectiv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5235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rts Education Standard Course of Study contained 8 or 9 competency goal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se goals are now included in the Essential Standards and the three stran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aring Str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Group 187" descr=""/>
          <p:cNvPicPr/>
          <p:nvPr/>
        </p:nvPicPr>
        <p:blipFill>
          <a:blip r:embed="rId1"/>
          <a:stretch/>
        </p:blipFill>
        <p:spPr>
          <a:xfrm>
            <a:off x="384120" y="1225440"/>
            <a:ext cx="7540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w Arts Essential Standards is the state curriculum mandated by the North Carolina Department of Public Instru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district develops a local curriculum that further elaborates on the Essential Standard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local curriculum and supporting documents will be housed in CMAPP (Curriculum Management Applic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905120"/>
            <a:ext cx="82296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s you plan your lessons this year, you may wish to consider including both the current SCoS objectives and one or more COs (Clarifying Objectives) 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05120"/>
            <a:ext cx="82296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ou may use your own templ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Post to the discussion boa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1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inue your exploration of how the new Essential Standards replace the current Standard Course of Study by completing the “Do” portion of this modu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2:29:00Z</dcterms:created>
  <dc:creator>elizabeth_droessler</dc:creator>
  <dc:description/>
  <dc:language>en-US</dc:language>
  <cp:lastModifiedBy>elizabeth_droessler</cp:lastModifiedBy>
  <dcterms:modified xsi:type="dcterms:W3CDTF">2012-06-11T15:39:31Z</dcterms:modified>
  <cp:revision>83</cp:revision>
  <dc:subject/>
  <dc:title>Common Core  Essential Standards  in the Arts</dc:title>
</cp:coreProperties>
</file>